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C1F-F310-41AC-AC02-0B43EE30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CA3-F1D1-44EA-8079-6DD9E2C1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35C-DCAD-4CDC-8F37-519810C2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D03-8948-4A8E-B8C2-9B0A1220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E25-D4A3-4163-B5E5-9AF8DB35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2A4-3D3A-4219-BB5C-C49D0AE7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1D52-81CE-415A-BF1C-E29ABBB8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4AC-79B9-4E29-B300-5A0DF768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47B-D6C5-4021-A0C2-45C03C72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907-36FC-4F13-B09E-BDA93311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1B0-5747-41F8-9F14-A8F95FA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5C8-2408-451A-B724-CF36DFAA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A50D-F963-4CD0-A9BA-8A4FFF17A61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lassificação dos sol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mportância da classificação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108000" y="1557360"/>
            <a:ext cx="885672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 objetivo da classificação dos solos, sob o ponto de vista de engenharia, é o de poder estimar o provável comportamento do solo ou, pelo menos, o de orientar o programa de investigação necessário para permitir a adequada análise de um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s índices empregados são geralmente a composição granulométrica e os índices de Atterbe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08000" y="384660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Formas de Class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8"/>
          <p:cNvSpPr/>
          <p:nvPr/>
        </p:nvSpPr>
        <p:spPr>
          <a:xfrm>
            <a:off x="108000" y="4414680"/>
            <a:ext cx="885672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Origem: solos residuais e solos transpor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volução pedogenética: classificação pedológica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Características peculiares: presença de MO, estrutur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Tipo e comportamento das partículas constituintes: sistemas  classificação dos solos baseados em propriedades – índ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Exemplo: Classificação pedológica dos s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pedologico"/>
          <p:cNvPicPr/>
          <p:nvPr/>
        </p:nvPicPr>
        <p:blipFill>
          <a:blip r:embed="rId2"/>
          <a:stretch/>
        </p:blipFill>
        <p:spPr>
          <a:xfrm>
            <a:off x="1979640" y="1557360"/>
            <a:ext cx="5400720" cy="5116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08000" y="1533600"/>
            <a:ext cx="885672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Elaborado pelo Prof. Casagrande para obras de aeroportos. Atualmente é utilizado pelos geotécnicos em barragens de terr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88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Calisto MT"/>
              </a:rPr>
              <a:t>Apresenta uma tabela de classificação onde se identificam três principais divisões de solos: solos de granulometria grossa; solos de granulometria fina e; solos altamente orgânic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3429000"/>
          <a:ext cx="2873520" cy="3352680"/>
        </p:xfrm>
        <a:graphic>
          <a:graphicData uri="http://schemas.openxmlformats.org/drawingml/2006/table">
            <a:tbl>
              <a:tblPr/>
              <a:tblGrid>
                <a:gridCol w="503280"/>
                <a:gridCol w="2370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dregul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 orgâ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m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 gradu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a compressi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46"/>
          <p:cNvSpPr/>
          <p:nvPr/>
        </p:nvSpPr>
        <p:spPr>
          <a:xfrm>
            <a:off x="3492360" y="3689280"/>
            <a:ext cx="5256360" cy="3009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Identificados pelo conjunto de duas letras. As 5 letras superiores indicam o tipo principal do solo e as 4 seguintes correspondem a dados complementares dos s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sto MT"/>
              </a:rPr>
              <a:t>Exemp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SW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eia bem gradu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Gothic"/>
              </a:rPr>
              <a:t>CH – </a:t>
            </a:r>
            <a:r>
              <a:rPr b="1" i="1" lang="pt-BR" sz="2000" spc="-1" strike="noStrike">
                <a:solidFill>
                  <a:srgbClr val="000000"/>
                </a:solidFill>
                <a:latin typeface="Century Gothic"/>
              </a:rPr>
              <a:t>Argila de alta compressibil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7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6978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lassificação Unif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lassiA"/>
          <p:cNvPicPr/>
          <p:nvPr/>
        </p:nvPicPr>
        <p:blipFill>
          <a:blip r:embed="rId2"/>
          <a:stretch/>
        </p:blipFill>
        <p:spPr>
          <a:xfrm>
            <a:off x="611280" y="1700280"/>
            <a:ext cx="7920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08000" y="1739880"/>
            <a:ext cx="885672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É a classificação tradicionalmente mais empregada na caracterização de solos para uso em estr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Classifica os solos em 8 grupo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granulares (% passante #200 &lt; 35%) → A-1, A-2 e A-3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finos (% passante #200 &gt; 35%) → A-4, A-5, A-6 e A-7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sto MT"/>
              </a:rPr>
              <a:t>solos altamente orgânicos → podem ser classificados como A-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Baseado na granulometria e Limites de Atterber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Se inicia a classificação pela constatação da porcentagem de material que passa na peneira #200, só que são considerados solos de granulação grosseira os que tem menos de 35% passando nesta penei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assificação HRB (Highway Research Bo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08000" y="1739880"/>
            <a:ext cx="8856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437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    </a:t>
            </a:r>
            <a:r>
              <a:rPr b="0" lang="pt-BR" sz="2300" spc="-1" strike="noStrike">
                <a:solidFill>
                  <a:srgbClr val="000000"/>
                </a:solidFill>
                <a:latin typeface="Calisto MT"/>
              </a:rPr>
              <a:t>Esquema para classificação pelo Sistema Rodoviá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4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748836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lassificação dos So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08000" y="1038240"/>
            <a:ext cx="85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istema trilinear de classificação tex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Triangulo"/>
          <p:cNvPicPr/>
          <p:nvPr/>
        </p:nvPicPr>
        <p:blipFill>
          <a:blip r:embed="rId2"/>
          <a:stretch/>
        </p:blipFill>
        <p:spPr>
          <a:xfrm>
            <a:off x="3492360" y="1628640"/>
            <a:ext cx="5472360" cy="513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0" name="Rectangle 10"/>
          <p:cNvSpPr/>
          <p:nvPr/>
        </p:nvSpPr>
        <p:spPr>
          <a:xfrm>
            <a:off x="252360" y="1766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 as porcentagens das frações areia, silte e argila obtidas dos ensaios de granulomet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252360" y="29242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gado na classificação de solos em engenharia rodoviária e em Pedolog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52360" y="4025880"/>
            <a:ext cx="3745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rama textural empregado em levantamentos de solos no Brasil (Lemos e Santos, 198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4:49Z</dcterms:modified>
  <cp:revision>139</cp:revision>
  <dc:subject/>
  <dc:title>Slide 1</dc:title>
</cp:coreProperties>
</file>